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7716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54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10"/>
          </p:nvPr>
        </p:nvSpPr>
        <p:spPr>
          <a:xfrm>
            <a:off x="3836880" y="0"/>
            <a:ext cx="29354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917280" y="773280"/>
            <a:ext cx="4940280" cy="37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1"/>
          </p:nvPr>
        </p:nvSpPr>
        <p:spPr>
          <a:xfrm>
            <a:off x="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12"/>
          </p:nvPr>
        </p:nvSpPr>
        <p:spPr>
          <a:xfrm>
            <a:off x="383688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D8F1B-6121-45E2-AD18-0A3CE0B9C4A0}" type="slidenum"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7328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Espace réservé du numéro de diapositive 3"/>
          <p:cNvSpPr/>
          <p:nvPr/>
        </p:nvSpPr>
        <p:spPr>
          <a:xfrm>
            <a:off x="383688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3B094-FC5E-47CA-9423-9D79EC7165C7}" type="slidenum"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7640" y="77328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Espace réservé du numéro de diapositive 3"/>
          <p:cNvSpPr/>
          <p:nvPr/>
        </p:nvSpPr>
        <p:spPr>
          <a:xfrm>
            <a:off x="383688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8E0F5-4BB5-4C90-BA42-6828E33A727F}" type="slidenum"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17640" y="77328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Espace réservé du numéro de diapositive 3"/>
          <p:cNvSpPr/>
          <p:nvPr/>
        </p:nvSpPr>
        <p:spPr>
          <a:xfrm>
            <a:off x="383688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844E9-A6AE-45B3-86C7-E3ECEBAD8D87}" type="slidenum"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17640" y="77328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Espace réservé du numéro de diapositive 3"/>
          <p:cNvSpPr/>
          <p:nvPr/>
        </p:nvSpPr>
        <p:spPr>
          <a:xfrm>
            <a:off x="383688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FF83B-F899-44DE-8BFC-02C730BB32AA}" type="slidenum"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7328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Espace réservé du numéro de diapositive 3"/>
          <p:cNvSpPr/>
          <p:nvPr/>
        </p:nvSpPr>
        <p:spPr>
          <a:xfrm>
            <a:off x="383688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51B6E-794E-48D0-A357-493C1EA1F241}" type="slidenum"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7328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Espace réservé du numéro de diapositive 3"/>
          <p:cNvSpPr/>
          <p:nvPr/>
        </p:nvSpPr>
        <p:spPr>
          <a:xfrm>
            <a:off x="383688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28DB6-549E-4501-AFD3-F82A045C94C1}" type="slidenum"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9055-3434-426E-897D-E4E0461DC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FED1-1D23-4520-BBEB-8C045BD8F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5103-2E62-4741-B56B-4D11D1533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157F-EEEA-4E3A-A2AB-FAD331011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B3A13-FF96-401A-AB86-2DF6E5B42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80DC6-61D0-4DC4-B3D1-4D60635C0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23F87-EE30-4309-80FE-3576E8CC4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7108A-97CE-4A30-BEC1-741893373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F37B1-8541-4FE4-98F5-919211174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F9511-399E-4084-96C8-313D0B58F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3453F-B0D7-48AB-B3F0-4F49BC16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ABF8-3CEE-492B-809B-ADEAEE40D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79996-247B-4EB3-AAA1-F1A6EAC5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64425-313A-4F1D-9176-7A77BCA6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268EF-01F8-4DC5-BC56-64F94E49E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FBCAE-E6B7-41E2-8AB6-EBC635A82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A5EF2-9F3E-4CF0-9A33-81A7EFFAC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81530-E606-45B1-A9FE-78628ACF9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4501C-79B6-41EC-B378-9C0D1624F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EF9ED-B6FE-4B87-84B7-B4183F067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42A0E-9A1F-43A3-A9F7-E6C265AAA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4F41D-DAD4-46EF-9A29-A118FD89E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262A-A065-440B-8D82-6FF0F474F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69E67-EDD1-46BE-A898-ED02D221C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4A2CE-D657-4EB8-B9A6-BBA33CF9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7A5E1-BFD4-4AF6-B09D-62B5E594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BDCE1-3A41-449A-924E-D4A2FDF5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99664-1705-4862-B4DE-43184DDE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23CDF-250E-41E9-AD4F-C240F41F8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55659-56C5-4D9C-B056-C20E03C37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884A-2402-4420-98B5-A47900355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9A68-DE01-48A3-8711-0EFC2421E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A265-3B22-43FA-BEF2-CB60D19A3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4395-AF25-4F52-B659-FAEACE8B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D44A-2C4A-4156-8745-259B7A3B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B68D-E71A-4E33-8D31-363972C7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a6c8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5E537-1884-40A7-9039-0F0934DC34D0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grpSp>
        <p:nvGrpSpPr>
          <p:cNvPr id="11" name="Group 13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12" name="Rectangle 14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14" name="Rectangle 16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4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55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6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7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8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3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0" name="Rectangle 14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61" name="Group 15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62" name="Rectangle 16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63" name="Rectangle 17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64" name="Rectangle 18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19" descr=""/>
          <p:cNvPicPr/>
          <p:nvPr/>
        </p:nvPicPr>
        <p:blipFill>
          <a:blip r:embed="rId2"/>
          <a:stretch/>
        </p:blipFill>
        <p:spPr>
          <a:xfrm>
            <a:off x="7251840" y="5388120"/>
            <a:ext cx="1065240" cy="12808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4355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684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103c72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4FEF3-407E-48F7-B7AC-DAF163C943B6}" type="slidenum">
              <a:rPr b="0" lang="zh-CN" sz="1000" spc="-1" strike="noStrike">
                <a:solidFill>
                  <a:srgbClr val="103c72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108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109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110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11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12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grpSp>
        <p:nvGrpSpPr>
          <p:cNvPr id="113" name="Group 13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114" name="Rectangle 14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115" name="Group 15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116" name="Rectangle 16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17" name="Rectangle 17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18" name="Rectangle 18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pic>
        <p:nvPicPr>
          <p:cNvPr id="119" name="Picture 2" descr="logo%20eu"/>
          <p:cNvPicPr/>
          <p:nvPr/>
        </p:nvPicPr>
        <p:blipFill>
          <a:blip r:embed="rId2"/>
          <a:stretch/>
        </p:blipFill>
        <p:spPr>
          <a:xfrm>
            <a:off x="647640" y="723960"/>
            <a:ext cx="1168560" cy="7621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3"/>
          <p:cNvSpPr/>
          <p:nvPr/>
        </p:nvSpPr>
        <p:spPr>
          <a:xfrm>
            <a:off x="1981080" y="576360"/>
            <a:ext cx="6235920" cy="7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aa1f1d"/>
                </a:solidFill>
                <a:latin typeface="Verdana"/>
              </a:rPr>
              <a:t>Regional Food Security Seminar Asia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aa1f1d"/>
                </a:solidFill>
                <a:latin typeface="Verdana"/>
              </a:rPr>
              <a:t>Vientiane, Laos 21st – 25th June 2010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Line 21"/>
          <p:cNvSpPr/>
          <p:nvPr/>
        </p:nvSpPr>
        <p:spPr>
          <a:xfrm>
            <a:off x="1930320" y="1523880"/>
            <a:ext cx="65404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a6c8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47E5B-B6CD-4D95-B2B1-CA364E40DDCB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3CADB-2E76-4CED-9A78-1F9AD628BD49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1" name="ZoneTexte 6"/>
          <p:cNvSpPr/>
          <p:nvPr/>
        </p:nvSpPr>
        <p:spPr>
          <a:xfrm>
            <a:off x="647640" y="2057400"/>
            <a:ext cx="7086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Snapshot of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od Security 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In Cambodia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3848040" y="5257800"/>
            <a:ext cx="47116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U Delegation to the Kingdom of Cambodia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485640" y="1603440"/>
            <a:ext cx="6811920" cy="479412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1968480" y="5664240"/>
            <a:ext cx="642636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Funding Support under Food Facility: € 17.9 M, 5 projects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Funding Support under Food Security: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€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5.1 M, 18 projects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Upcoming funding under FS in urban areas: € 2 M, 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6113520" y="1321560"/>
            <a:ext cx="2009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ff"/>
                </a:solidFill>
                <a:latin typeface="Arial"/>
              </a:rPr>
              <a:t>3. Respons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AutoShape 2"/>
          <p:cNvSpPr/>
          <p:nvPr/>
        </p:nvSpPr>
        <p:spPr>
          <a:xfrm>
            <a:off x="241200" y="2451240"/>
            <a:ext cx="6642360" cy="4254480"/>
          </a:xfrm>
          <a:prstGeom prst="wedgeRectCallout">
            <a:avLst>
              <a:gd name="adj1" fmla="val 1458"/>
              <a:gd name="adj2" fmla="val -56902"/>
            </a:avLst>
          </a:prstGeom>
          <a:solidFill>
            <a:srgbClr val="5ca477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bf8fd"/>
                </a:solidFill>
                <a:latin typeface="Arial"/>
              </a:rPr>
              <a:t>To Donors: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88"/>
              </a:spcBef>
              <a:buClr>
                <a:srgbClr val="ebf8f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f8f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ebf8fd"/>
                </a:solidFill>
                <a:latin typeface="Arial"/>
              </a:rPr>
              <a:t>Don’t cut aid, but continue and with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etter targeting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88"/>
              </a:spcBef>
              <a:buClr>
                <a:srgbClr val="ebf8f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f8f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ebf8fd"/>
                </a:solidFill>
                <a:latin typeface="Arial"/>
              </a:rPr>
              <a:t>Don’t just focus on emergency funding (e.g. food aid),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ut also on agricultural sector, micro-credit schemes</a:t>
            </a:r>
            <a:r>
              <a:rPr b="0" lang="en-US" sz="1800" spc="-1" strike="noStrike">
                <a:solidFill>
                  <a:srgbClr val="ebf8fd"/>
                </a:solidFill>
                <a:latin typeface="Arial"/>
              </a:rPr>
              <a:t>, health, etc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88"/>
              </a:spcBef>
              <a:buClr>
                <a:srgbClr val="103c7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cus a greater proportion of aid on core needs:</a:t>
            </a:r>
            <a:r>
              <a:rPr b="0" lang="en-US" sz="1800" spc="-1" strike="noStrike">
                <a:solidFill>
                  <a:srgbClr val="103c7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ocial safety net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88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ngage with government</a:t>
            </a:r>
            <a:r>
              <a:rPr b="0" lang="en-US" sz="1800" spc="-1" strike="noStrike">
                <a:solidFill>
                  <a:srgbClr val="ebf8fd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sure that the funding from donors is used efficiently to directly meet the needs of the poor and encourage them to engage with civil society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88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Work with civil society</a:t>
            </a:r>
            <a:r>
              <a:rPr b="0" lang="en-US" sz="1800" spc="-1" strike="noStrike">
                <a:solidFill>
                  <a:srgbClr val="ebf8fd"/>
                </a:solidFill>
                <a:latin typeface="Arial"/>
              </a:rPr>
              <a:t> t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lement the necessary responses, government may lack the capacity to reach the poorest of the poo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97" name="Picture 6" descr=""/>
          <p:cNvPicPr/>
          <p:nvPr/>
        </p:nvPicPr>
        <p:blipFill>
          <a:blip r:embed="rId1"/>
          <a:stretch/>
        </p:blipFill>
        <p:spPr>
          <a:xfrm>
            <a:off x="6934320" y="1549440"/>
            <a:ext cx="1962000" cy="1305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"/>
          <p:cNvPicPr/>
          <p:nvPr/>
        </p:nvPicPr>
        <p:blipFill>
          <a:blip r:embed="rId2"/>
          <a:stretch/>
        </p:blipFill>
        <p:spPr>
          <a:xfrm>
            <a:off x="6934320" y="2816280"/>
            <a:ext cx="1962000" cy="1314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"/>
          <p:cNvPicPr/>
          <p:nvPr/>
        </p:nvPicPr>
        <p:blipFill>
          <a:blip r:embed="rId3"/>
          <a:stretch/>
        </p:blipFill>
        <p:spPr>
          <a:xfrm>
            <a:off x="6934320" y="4111560"/>
            <a:ext cx="1962000" cy="13143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9" descr=""/>
          <p:cNvPicPr/>
          <p:nvPr/>
        </p:nvPicPr>
        <p:blipFill>
          <a:blip r:embed="rId4"/>
          <a:stretch/>
        </p:blipFill>
        <p:spPr>
          <a:xfrm>
            <a:off x="6934320" y="5407200"/>
            <a:ext cx="1981080" cy="1323720"/>
          </a:xfrm>
          <a:prstGeom prst="rect">
            <a:avLst/>
          </a:prstGeom>
          <a:ln w="0">
            <a:noFill/>
          </a:ln>
        </p:spPr>
      </p:pic>
      <p:sp>
        <p:nvSpPr>
          <p:cNvPr id="201" name="Oval 12"/>
          <p:cNvSpPr/>
          <p:nvPr/>
        </p:nvSpPr>
        <p:spPr>
          <a:xfrm>
            <a:off x="177840" y="1576440"/>
            <a:ext cx="6648480" cy="520200"/>
          </a:xfrm>
          <a:prstGeom prst="ellipse">
            <a:avLst/>
          </a:prstGeom>
          <a:solidFill>
            <a:srgbClr val="5ca4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bf8fd"/>
                </a:solidFill>
                <a:latin typeface="Arial"/>
              </a:rPr>
              <a:t>4. Messages from the fiel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AutoShape 2"/>
          <p:cNvSpPr/>
          <p:nvPr/>
        </p:nvSpPr>
        <p:spPr>
          <a:xfrm>
            <a:off x="241200" y="2413080"/>
            <a:ext cx="8293320" cy="4292640"/>
          </a:xfrm>
          <a:prstGeom prst="wedgeRectCallout">
            <a:avLst>
              <a:gd name="adj1" fmla="val -8787"/>
              <a:gd name="adj2" fmla="val -55953"/>
            </a:avLst>
          </a:prstGeom>
          <a:solidFill>
            <a:srgbClr val="5ca477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ebf8fd"/>
                </a:solidFill>
                <a:latin typeface="Arial"/>
              </a:rPr>
              <a:t>To the government </a:t>
            </a:r>
            <a:endParaRPr b="0" lang="en-US" sz="17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524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Act</a:t>
            </a:r>
            <a:r>
              <a:rPr b="0" lang="en-US" sz="1700" spc="-1" strike="noStrike">
                <a:solidFill>
                  <a:srgbClr val="103c72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timely and rightly</a:t>
            </a:r>
            <a:r>
              <a:rPr b="0" lang="en-US" sz="1700" spc="-1" strike="noStrike">
                <a:solidFill>
                  <a:srgbClr val="103c72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to crisis;</a:t>
            </a:r>
            <a:r>
              <a:rPr b="0" lang="en-US" sz="1700" spc="-1" strike="noStrike">
                <a:solidFill>
                  <a:srgbClr val="103c72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engage civil society</a:t>
            </a:r>
            <a:r>
              <a:rPr b="0" lang="en-US" sz="1700" spc="-1" strike="noStrike">
                <a:solidFill>
                  <a:srgbClr val="103c72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in discussing government responses </a:t>
            </a:r>
            <a:endParaRPr b="0" lang="en-US" sz="17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524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Focus on</a:t>
            </a:r>
            <a:r>
              <a:rPr b="0" lang="en-US" sz="1700" spc="-1" strike="noStrike">
                <a:solidFill>
                  <a:srgbClr val="103c72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stimulus packages that take account of the poor as the starting point</a:t>
            </a:r>
            <a:r>
              <a:rPr b="0" lang="en-US" sz="1700" spc="-1" strike="noStrike">
                <a:solidFill>
                  <a:srgbClr val="103c72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(seed banks, direct cash transfers, rural small scale economic development activities)</a:t>
            </a:r>
            <a:endParaRPr b="0" lang="en-US" sz="1700" spc="-1" strike="noStrike">
              <a:solidFill>
                <a:srgbClr val="80808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524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Prevent children from dropping out of schools (</a:t>
            </a: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don’t mortgage the future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7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524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Increase agricultural production and productivity</a:t>
            </a:r>
            <a:endParaRPr b="0" lang="en-US" sz="1700" spc="-1" strike="noStrike">
              <a:solidFill>
                <a:srgbClr val="80808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524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Land reform</a:t>
            </a:r>
            <a:r>
              <a:rPr b="0" lang="en-US" sz="1700" spc="-1" strike="noStrike">
                <a:solidFill>
                  <a:srgbClr val="103c72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(Land title and property rights, Better land management and Redistribution)</a:t>
            </a:r>
            <a:endParaRPr b="0" lang="en-US" sz="1700" spc="-1" strike="noStrike">
              <a:solidFill>
                <a:srgbClr val="80808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524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Infra-structure</a:t>
            </a:r>
            <a:r>
              <a:rPr b="0" lang="en-US" sz="1700" spc="-1" strike="noStrike">
                <a:solidFill>
                  <a:srgbClr val="103c72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(Irrigation, water management, Rural roads)</a:t>
            </a:r>
            <a:endParaRPr b="0" lang="en-US" sz="1700" spc="-1" strike="noStrike">
              <a:solidFill>
                <a:srgbClr val="80808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524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Facilitate loans</a:t>
            </a:r>
            <a:r>
              <a:rPr b="0" lang="en-US" sz="1700" spc="-1" strike="noStrike">
                <a:solidFill>
                  <a:srgbClr val="103c72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for agricultural development</a:t>
            </a:r>
            <a:endParaRPr b="0" lang="en-US" sz="1700" spc="-1" strike="noStrike">
              <a:solidFill>
                <a:srgbClr val="80808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524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Improvement of production technology</a:t>
            </a:r>
            <a:r>
              <a:rPr b="0" lang="en-US" sz="1700" spc="-1" strike="noStrike">
                <a:solidFill>
                  <a:srgbClr val="103c72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(high purified and quality seeds; better fertilizer use – timing and amount; with the mobilizations of natural composting)</a:t>
            </a:r>
            <a:endParaRPr b="0" lang="en-US" sz="17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3" name="Oval 7"/>
          <p:cNvSpPr/>
          <p:nvPr/>
        </p:nvSpPr>
        <p:spPr>
          <a:xfrm>
            <a:off x="177840" y="1576440"/>
            <a:ext cx="6648480" cy="520200"/>
          </a:xfrm>
          <a:prstGeom prst="ellipse">
            <a:avLst/>
          </a:prstGeom>
          <a:solidFill>
            <a:srgbClr val="5ca4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bf8fd"/>
                </a:solidFill>
                <a:latin typeface="Arial"/>
              </a:rPr>
              <a:t>4. Messages from the fiel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AutoShape 2"/>
          <p:cNvSpPr/>
          <p:nvPr/>
        </p:nvSpPr>
        <p:spPr>
          <a:xfrm>
            <a:off x="241200" y="2311560"/>
            <a:ext cx="8242560" cy="2806560"/>
          </a:xfrm>
          <a:prstGeom prst="wedgeRectCallout">
            <a:avLst>
              <a:gd name="adj1" fmla="val -8532"/>
              <a:gd name="adj2" fmla="val -55486"/>
            </a:avLst>
          </a:prstGeom>
          <a:solidFill>
            <a:srgbClr val="5ca477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o Civil Society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Be</a:t>
            </a:r>
            <a:r>
              <a:rPr b="0" lang="en-US" sz="1600" spc="-1" strike="noStrike">
                <a:solidFill>
                  <a:srgbClr val="103c72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well aware</a:t>
            </a:r>
            <a:r>
              <a:rPr b="0" lang="en-US" sz="1600" spc="-1" strike="noStrike">
                <a:solidFill>
                  <a:srgbClr val="103c72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f the crisis and</a:t>
            </a:r>
            <a:r>
              <a:rPr b="0" lang="en-US" sz="1600" spc="-1" strike="noStrike">
                <a:solidFill>
                  <a:srgbClr val="103c72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increase the awareness</a:t>
            </a:r>
            <a:r>
              <a:rPr b="0" lang="en-US" sz="1600" spc="-1" strike="noStrike">
                <a:solidFill>
                  <a:srgbClr val="103c72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 the lowest local planners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103c7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03c72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crease capacity for</a:t>
            </a:r>
            <a:r>
              <a:rPr b="0" lang="en-US" sz="1600" spc="-1" strike="noStrike">
                <a:solidFill>
                  <a:srgbClr val="103c72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resources mobilization</a:t>
            </a:r>
            <a:r>
              <a:rPr b="0" lang="en-US" sz="1600" spc="-1" strike="noStrike">
                <a:solidFill>
                  <a:srgbClr val="103c72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d their</a:t>
            </a:r>
            <a:r>
              <a:rPr b="0" lang="en-US" sz="1600" spc="-1" strike="noStrike">
                <a:solidFill>
                  <a:srgbClr val="103c72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effective use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Involve local partners and institutions</a:t>
            </a:r>
            <a:r>
              <a:rPr b="0" lang="en-GB" sz="1600" spc="-1" strike="noStrike">
                <a:solidFill>
                  <a:srgbClr val="103c72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when defining and implementing response. Account for all groups affected by the crises, with special attention to women, children and minority groups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Increase beneficiaries participation</a:t>
            </a:r>
            <a:r>
              <a:rPr b="0" lang="en-US" sz="1600" spc="-1" strike="noStrike">
                <a:solidFill>
                  <a:srgbClr val="103c72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 all project development cycles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Work closely with the local authorities</a:t>
            </a:r>
            <a:r>
              <a:rPr b="0" lang="en-US" sz="1600" spc="-1" strike="noStrike">
                <a:solidFill>
                  <a:srgbClr val="103c72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d other stakeholders to increase efficiency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103c7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03c72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mpowering and establishing</a:t>
            </a:r>
            <a:r>
              <a:rPr b="0" lang="en-US" sz="1600" spc="-1" strike="noStrike">
                <a:solidFill>
                  <a:srgbClr val="103c72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local development structures</a:t>
            </a:r>
            <a:r>
              <a:rPr b="0" lang="en-US" sz="1600" spc="-1" strike="noStrike">
                <a:solidFill>
                  <a:srgbClr val="103c72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lear exit strategy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5" name="Oval 7"/>
          <p:cNvSpPr/>
          <p:nvPr/>
        </p:nvSpPr>
        <p:spPr>
          <a:xfrm>
            <a:off x="177840" y="1576440"/>
            <a:ext cx="6648480" cy="520200"/>
          </a:xfrm>
          <a:prstGeom prst="ellipse">
            <a:avLst/>
          </a:prstGeom>
          <a:solidFill>
            <a:srgbClr val="5ca4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bf8fd"/>
                </a:solidFill>
                <a:latin typeface="Arial"/>
              </a:rPr>
              <a:t>4. Messages from the fiel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206" name="Picture 8" descr=""/>
          <p:cNvPicPr/>
          <p:nvPr/>
        </p:nvPicPr>
        <p:blipFill>
          <a:blip r:embed="rId1"/>
          <a:stretch/>
        </p:blipFill>
        <p:spPr>
          <a:xfrm>
            <a:off x="609480" y="5181480"/>
            <a:ext cx="2286000" cy="15242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9" descr=""/>
          <p:cNvPicPr/>
          <p:nvPr/>
        </p:nvPicPr>
        <p:blipFill>
          <a:blip r:embed="rId2"/>
          <a:stretch/>
        </p:blipFill>
        <p:spPr>
          <a:xfrm>
            <a:off x="3276720" y="5181480"/>
            <a:ext cx="2286000" cy="15051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"/>
          <p:cNvPicPr/>
          <p:nvPr/>
        </p:nvPicPr>
        <p:blipFill>
          <a:blip r:embed="rId3"/>
          <a:stretch/>
        </p:blipFill>
        <p:spPr>
          <a:xfrm>
            <a:off x="5943600" y="5181480"/>
            <a:ext cx="2286000" cy="15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F6129-16C9-4E46-B262-18C3F2AB6E2F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4" name="ZoneTexte 2"/>
          <p:cNvSpPr/>
          <p:nvPr/>
        </p:nvSpPr>
        <p:spPr>
          <a:xfrm>
            <a:off x="863640" y="1981080"/>
            <a:ext cx="7556400" cy="35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ontent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1" marL="914400" indent="-457200">
              <a:lnSpc>
                <a:spcPct val="105000"/>
              </a:lnSpc>
              <a:spcBef>
                <a:spcPts val="1225"/>
              </a:spcBef>
              <a:buClr>
                <a:srgbClr val="33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Cambodia Context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1" marL="914400" indent="-457200">
              <a:lnSpc>
                <a:spcPct val="105000"/>
              </a:lnSpc>
              <a:spcBef>
                <a:spcPts val="1225"/>
              </a:spcBef>
              <a:buClr>
                <a:srgbClr val="33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Challenges ahead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1" marL="914400" indent="-457200">
              <a:lnSpc>
                <a:spcPct val="105000"/>
              </a:lnSpc>
              <a:spcBef>
                <a:spcPts val="1225"/>
              </a:spcBef>
              <a:buClr>
                <a:srgbClr val="33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C Response : 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2" marL="1371600" indent="-457200">
              <a:lnSpc>
                <a:spcPct val="105000"/>
              </a:lnSpc>
              <a:spcBef>
                <a:spcPts val="12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od Security &amp; Food Facility projects 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1" marL="914400" indent="-457200">
              <a:lnSpc>
                <a:spcPct val="105000"/>
              </a:lnSpc>
              <a:spcBef>
                <a:spcPts val="1225"/>
              </a:spcBef>
              <a:buClr>
                <a:srgbClr val="33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nclusion : Messages from the Field 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opulation : 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14 millions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00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80 % lives in rural areas and 71 % depend primarily on agricultur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(largely rice) and livestock for their livelihoods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00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32 % of populatio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is below the poverty line and 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90 % of the poor reside in rural areas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overty in Cambodia is overwhelmingly rural, ranging 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from 40-45 %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in the rural areas, 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reaching 70-80 %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in some areas around the Tonle Basin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ural poverty and food insecurity are strongly interlinked :  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71 % of households expenditure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is spent on food (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in the lowest income, more than 80%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ost people depend 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on their own capacity to produce food to meet their need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 they grow crops including their staple food (rice) annual and perennial crops, raise livestock, and harvest wild foods from fisheries and forests for food and income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poorest are particularly dependent on 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access to common property resource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(ex. eating and selling fish, eating mushrooms, firewood…)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6113520" y="1321560"/>
            <a:ext cx="2009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ff"/>
                </a:solidFill>
                <a:latin typeface="Arial"/>
              </a:rPr>
              <a:t>1. Contex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30120" y="1574280"/>
            <a:ext cx="84456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2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volatile food prices have negatively affected the poor households, as they can not easily shift non-food parts of their expenditures to food, </a:t>
            </a:r>
            <a:r>
              <a:rPr b="1" lang="en-GB" sz="1600" spc="-1" strike="noStrike" u="sng">
                <a:solidFill>
                  <a:srgbClr val="0000ff"/>
                </a:solidFill>
                <a:uFillTx/>
                <a:latin typeface="Arial"/>
              </a:rPr>
              <a:t>coping strategie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re :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200"/>
              </a:lnSpc>
              <a:spcBef>
                <a:spcPts val="1100"/>
              </a:spcBef>
              <a:buClr>
                <a:srgbClr val="0000ff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Reduce the quality of food : lower value, less nutritious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2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Decreased consumption of nutrient-dense foods: animal source foods (meat, poultry, eggs, fish, milk), fruits and vegetables</a:t>
            </a:r>
            <a:endParaRPr b="0" lang="en-US" sz="15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200"/>
              </a:lnSpc>
              <a:spcBef>
                <a:spcPts val="1100"/>
              </a:spcBef>
              <a:buClr>
                <a:srgbClr val="0000ff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Reduce the quantity of food : reduction of food intake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2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educed expenditure on basic foods : sugar, oil, salt and staples such as wheat flour products, rice and tubers</a:t>
            </a:r>
            <a:endParaRPr b="0" lang="en-US" sz="15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200"/>
              </a:lnSpc>
              <a:spcBef>
                <a:spcPts val="1100"/>
              </a:spcBef>
              <a:buClr>
                <a:srgbClr val="0000ff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Apply other negative coping strategies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2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Increased use of foods grown or collected (eg increasing pressure on fish stock)</a:t>
            </a:r>
            <a:endParaRPr b="0" lang="en-US" sz="15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2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urchasing fewer agricultural inputs</a:t>
            </a:r>
            <a:endParaRPr b="0" lang="en-US" sz="15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2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aking loans and face further indebtedness, </a:t>
            </a:r>
            <a:endParaRPr b="0" lang="en-US" sz="15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2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Distress sale of productive assets, </a:t>
            </a:r>
            <a:endParaRPr b="0" lang="en-US" sz="15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2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aking children out of school (usually girls first) leading to increase of child labour</a:t>
            </a:r>
            <a:endParaRPr b="0" lang="en-US" sz="15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2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educed spending on health</a:t>
            </a:r>
            <a:endParaRPr b="0" lang="en-US" sz="15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2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rying to increase incomes – risks of unsafe behaviours (migration, sex industry …)</a:t>
            </a:r>
            <a:endParaRPr b="0" lang="en-US" sz="15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8" name="Line 6"/>
          <p:cNvSpPr/>
          <p:nvPr/>
        </p:nvSpPr>
        <p:spPr>
          <a:xfrm>
            <a:off x="228600" y="3098880"/>
            <a:ext cx="60948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9" name="Line 7"/>
          <p:cNvSpPr/>
          <p:nvPr/>
        </p:nvSpPr>
        <p:spPr>
          <a:xfrm>
            <a:off x="990720" y="2362320"/>
            <a:ext cx="0" cy="16002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0" name="Rectangle 13"/>
          <p:cNvSpPr/>
          <p:nvPr/>
        </p:nvSpPr>
        <p:spPr>
          <a:xfrm>
            <a:off x="6113520" y="1321560"/>
            <a:ext cx="2009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ff"/>
                </a:solidFill>
                <a:latin typeface="Arial"/>
              </a:rPr>
              <a:t>1. Contex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5" descr="DSC06911"/>
          <p:cNvPicPr/>
          <p:nvPr/>
        </p:nvPicPr>
        <p:blipFill>
          <a:blip r:embed="rId1"/>
          <a:stretch/>
        </p:blipFill>
        <p:spPr>
          <a:xfrm>
            <a:off x="6032520" y="3240000"/>
            <a:ext cx="2705040" cy="36180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44600" y="2031840"/>
            <a:ext cx="554976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trition Status in Cambodia has deteriorated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(Anthropometric Survey - Nov 2008 )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rease in acute malnutrition (wasting) of children under five :  rate of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8.9% in 2008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compared to 8.4% in 2005.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trend is even stronger for poor urban children &lt; 5 with a wasting rate of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15.9%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compared to 9.6% in 2005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83" name="Rectangle 11"/>
          <p:cNvSpPr/>
          <p:nvPr/>
        </p:nvSpPr>
        <p:spPr>
          <a:xfrm>
            <a:off x="6113520" y="1321560"/>
            <a:ext cx="2009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ff"/>
                </a:solidFill>
                <a:latin typeface="Arial"/>
              </a:rPr>
              <a:t>1. Contex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80520" y="1625400"/>
            <a:ext cx="8001000" cy="49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299"/>
              </a:lnSpc>
              <a:spcBef>
                <a:spcPts val="312"/>
              </a:spcBef>
              <a:buClr>
                <a:srgbClr val="00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ff"/>
                </a:solidFill>
                <a:latin typeface="Arial"/>
              </a:rPr>
              <a:t>The consequences of reducing dietary quality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(micronutrient deficiencies) and quantity (reducing dietary energy) in terms of nutrition &amp; health … </a:t>
            </a:r>
            <a:r>
              <a:rPr b="0" lang="en-GB" sz="1700" spc="-1" strike="noStrike">
                <a:solidFill>
                  <a:srgbClr val="0000ff"/>
                </a:solidFill>
                <a:latin typeface="Arial"/>
              </a:rPr>
              <a:t>are jeopardising the future</a:t>
            </a:r>
            <a:endParaRPr b="0" lang="en-US" sz="17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299"/>
              </a:lnSpc>
              <a:spcBef>
                <a:spcPts val="312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Often already prevalent in poor populations, especially stunting, and so increase of severity can happen very rapidly</a:t>
            </a:r>
            <a:endParaRPr b="0" lang="en-US" sz="17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299"/>
              </a:lnSpc>
              <a:spcBef>
                <a:spcPts val="312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Greatest negative impact </a:t>
            </a:r>
            <a:r>
              <a:rPr b="0" lang="en-GB" sz="1700" spc="-1" strike="noStrike">
                <a:solidFill>
                  <a:srgbClr val="0000ff"/>
                </a:solidFill>
                <a:latin typeface="Arial"/>
              </a:rPr>
              <a:t>on growing infants and children and pregnant and lactating mothers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which leads to irreparable damages and life time productivity losses, and </a:t>
            </a:r>
            <a:r>
              <a:rPr b="0" lang="en-GB" sz="1700" spc="-1" strike="noStrike">
                <a:solidFill>
                  <a:srgbClr val="0000ff"/>
                </a:solidFill>
                <a:latin typeface="Arial"/>
              </a:rPr>
              <a:t>will further affect maternal death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(for which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o progress has been made since 2000)</a:t>
            </a:r>
            <a:endParaRPr b="0" lang="en-US" sz="17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299"/>
              </a:lnSpc>
              <a:spcBef>
                <a:spcPts val="312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Slowed cognitive development and growth</a:t>
            </a:r>
            <a:endParaRPr b="0" lang="en-US" sz="17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299"/>
              </a:lnSpc>
              <a:spcBef>
                <a:spcPts val="312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Increased thinness among adolescents and adults</a:t>
            </a:r>
            <a:endParaRPr b="0" lang="en-US" sz="17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299"/>
              </a:lnSpc>
              <a:spcBef>
                <a:spcPts val="312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Increased incidence and </a:t>
            </a:r>
            <a:r>
              <a:rPr b="0" lang="en-GB" sz="1700" spc="-1" strike="noStrike">
                <a:solidFill>
                  <a:srgbClr val="0000ff"/>
                </a:solidFill>
                <a:latin typeface="Arial"/>
              </a:rPr>
              <a:t>severity of infectious diseases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, and especially diarrhoea</a:t>
            </a:r>
            <a:endParaRPr b="0" lang="en-US" sz="17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299"/>
              </a:lnSpc>
              <a:spcBef>
                <a:spcPts val="312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Increased stunting has long-term </a:t>
            </a:r>
            <a:r>
              <a:rPr b="0" lang="en-GB" sz="1700" spc="-1" strike="noStrike">
                <a:solidFill>
                  <a:srgbClr val="0000ff"/>
                </a:solidFill>
                <a:latin typeface="Arial"/>
              </a:rPr>
              <a:t>impacts of impaired school performance, work productivity and future earning potential</a:t>
            </a:r>
            <a:endParaRPr b="0" lang="en-US" sz="17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38088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lnSpc>
                <a:spcPct val="80000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6" name="Rectangle 10"/>
          <p:cNvSpPr/>
          <p:nvPr/>
        </p:nvSpPr>
        <p:spPr>
          <a:xfrm>
            <a:off x="6113520" y="1321560"/>
            <a:ext cx="2009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ff"/>
                </a:solidFill>
                <a:latin typeface="Arial"/>
              </a:rPr>
              <a:t>1. Contex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03040" y="1587600"/>
            <a:ext cx="869976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975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03c72"/>
                </a:solidFill>
                <a:latin typeface="Arial"/>
              </a:rPr>
              <a:t>Agricultural growth is currently constrained by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945720" indent="-497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nsufficient Access to water</a:t>
            </a:r>
            <a:r>
              <a:rPr b="0" lang="en-US" sz="1600" spc="-1" strike="noStrike">
                <a:solidFill>
                  <a:srgbClr val="103c72"/>
                </a:solidFill>
                <a:latin typeface="Arial"/>
              </a:rPr>
              <a:t> : lack of irrigation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945720" indent="-497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nsufficient Access to land, forests and fisheries</a:t>
            </a:r>
            <a:r>
              <a:rPr b="0" lang="en-US" sz="1600" spc="-1" strike="noStrike">
                <a:solidFill>
                  <a:srgbClr val="103c72"/>
                </a:solidFill>
                <a:latin typeface="Arial"/>
              </a:rPr>
              <a:t> : </a:t>
            </a:r>
            <a:r>
              <a:rPr b="0" lang="en-GB" sz="1600" spc="-1" strike="noStrike">
                <a:solidFill>
                  <a:srgbClr val="103c72"/>
                </a:solidFill>
                <a:latin typeface="Arial"/>
              </a:rPr>
              <a:t>20% landless, 25% &lt; 0,5 ha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945720" indent="-497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nsufficient Access to technology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in production, transport, post-harvest storage, processing/small scale transformation, and marketing/sales of products </a:t>
            </a:r>
            <a:r>
              <a:rPr b="0" lang="en-US" sz="1600" spc="-1" strike="noStrike">
                <a:solidFill>
                  <a:srgbClr val="103c72"/>
                </a:solidFill>
                <a:latin typeface="Arial"/>
              </a:rPr>
              <a:t>(deficient distribution and infrastructure : roads, markets)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2" marL="13953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103c72"/>
                </a:solidFill>
                <a:latin typeface="Wingdings"/>
                <a:ea typeface="Wingdings"/>
              </a:rPr>
              <a:t></a:t>
            </a:r>
            <a:r>
              <a:rPr b="0" i="1" lang="en-US" sz="1600" spc="-1" strike="noStrike">
                <a:solidFill>
                  <a:srgbClr val="103c72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103c72"/>
                </a:solidFill>
                <a:latin typeface="Arial"/>
              </a:rPr>
              <a:t>which also affects competitiveness in regards to neighbouring countries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945720" indent="-497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nsufficient Access to capital for investment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: loans and micro-credit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945720" indent="-497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nsufficient Access to diversified income-generation activities</a:t>
            </a:r>
            <a:r>
              <a:rPr b="0" lang="en-US" sz="1600" spc="-1" strike="noStrike">
                <a:solidFill>
                  <a:srgbClr val="103c72"/>
                </a:solidFill>
                <a:latin typeface="Arial"/>
              </a:rPr>
              <a:t>, and limited long-term agribusiness investment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945720" indent="-497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nsufficient Access to market information</a:t>
            </a:r>
            <a:r>
              <a:rPr b="0" lang="en-US" sz="1600" spc="-1" strike="noStrike">
                <a:solidFill>
                  <a:srgbClr val="103c72"/>
                </a:solidFill>
                <a:latin typeface="Arial"/>
              </a:rPr>
              <a:t> (productivity and products prices)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945720" indent="-497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apacity</a:t>
            </a:r>
            <a:r>
              <a:rPr b="0" lang="en-US" sz="1600" spc="-1" strike="noStrike">
                <a:solidFill>
                  <a:srgbClr val="103c72"/>
                </a:solidFill>
                <a:latin typeface="Arial"/>
              </a:rPr>
              <a:t> of farmers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945720" indent="-497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eakness of public services</a:t>
            </a:r>
            <a:r>
              <a:rPr b="0" lang="en-US" sz="1600" spc="-1" strike="noStrike">
                <a:solidFill>
                  <a:srgbClr val="103c72"/>
                </a:solidFill>
                <a:latin typeface="Arial"/>
              </a:rPr>
              <a:t> (on agriculture research, extension, market information and phytosanitary services)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945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Wingdings"/>
                <a:ea typeface="Wingdings"/>
              </a:rPr>
              <a:t></a:t>
            </a:r>
            <a:r>
              <a:rPr b="0" lang="en-GB" sz="1600" spc="-1" strike="noStrike">
                <a:solidFill>
                  <a:srgbClr val="103c72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103c72"/>
                </a:solidFill>
                <a:latin typeface="Arial"/>
              </a:rPr>
              <a:t>Furthermore, Cambodia faces immediate threats to its agricultural production and food security from 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climate changes</a:t>
            </a:r>
            <a:r>
              <a:rPr b="0" lang="en-GB" sz="1600" spc="-1" strike="noStrike">
                <a:solidFill>
                  <a:srgbClr val="103c72"/>
                </a:solidFill>
                <a:latin typeface="Arial"/>
              </a:rPr>
              <a:t> in rainfall, temperatures and availability of water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6113520" y="1321560"/>
            <a:ext cx="2009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ff"/>
                </a:solidFill>
                <a:latin typeface="Arial"/>
              </a:rPr>
              <a:t>2. Challenge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" descr=""/>
          <p:cNvPicPr/>
          <p:nvPr/>
        </p:nvPicPr>
        <p:blipFill>
          <a:blip r:embed="rId1"/>
          <a:srcRect l="14654" t="13786" r="16635" b="22353"/>
          <a:stretch/>
        </p:blipFill>
        <p:spPr>
          <a:xfrm>
            <a:off x="730080" y="1600200"/>
            <a:ext cx="669312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80880" y="1663200"/>
            <a:ext cx="8305920" cy="36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0796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ral and urban poor, landless or land poor farmers and female-headed households are the worst hit by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xternal and internal shocks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50796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ural poor are often forced onto marginal flood-prone land; areas subject to drought or not yet cleared of landmines and unexploded ordnance.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50796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population is predominantly rural and expanding and financial crisis have seen th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grant workers back to rural areas as factories are closing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50796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either urban development nor diversification of rural incomes will be sufficient to provide for or respond to the needs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965160" indent="-50796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Land reform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 in Cambodia is seen as key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965160" indent="-50796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Creating and safeguarding secure livelihoods 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(social safety nets)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 for the rural poor will therefore depend greatly on how key natural resources – forestry, fisheries and agricultural land – are managed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254160" y="5334120"/>
            <a:ext cx="8381880" cy="129528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Increased risk for </a:t>
            </a:r>
            <a:r>
              <a:rPr b="0" lang="fr-BE" sz="1600" spc="-1" strike="noStrike">
                <a:solidFill>
                  <a:srgbClr val="0000ff"/>
                </a:solidFill>
                <a:latin typeface="Arial"/>
              </a:rPr>
              <a:t>women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 of gender disparities and of domestic violence and trafficking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eed for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la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creation of employmen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opportunities in rural areas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eed to ensure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health ca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ocial prote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all people, especially the poorest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6113520" y="1321560"/>
            <a:ext cx="2009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ff"/>
                </a:solidFill>
                <a:latin typeface="Arial"/>
              </a:rPr>
              <a:t>2. Challenge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5T14:28:50Z</dcterms:created>
  <dc:creator>newmajo</dc:creator>
  <dc:description/>
  <dc:language>en-US</dc:language>
  <cp:lastModifiedBy>albyflores_v</cp:lastModifiedBy>
  <cp:lastPrinted>2003-11-06T16:40:02Z</cp:lastPrinted>
  <dcterms:modified xsi:type="dcterms:W3CDTF">2010-07-18T21:41:15Z</dcterms:modified>
  <cp:revision>875</cp:revision>
  <dc:subject/>
  <dc:title>No Slide Title</dc:title>
</cp:coreProperties>
</file>